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DCD5-E579-458C-A64C-92751448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E13E-5D5A-4F98-8D14-E652EFD2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37EC-1499-4E8C-9FBA-F9E50CB6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D77F-36D7-407E-9850-A67C799D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7876-F0D6-4B09-A769-7B6CECC7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7DA7-530E-4FF9-882D-94443B71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61DD-D6C7-43AD-95BB-6ED005B8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2613-24CA-4E13-B278-B7AE6E69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CA5B-6E72-4B1E-BCE2-7674BFBD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6ECB-DA66-4CF8-9E66-07066FA2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5C6D-D1E0-47D5-888D-37EBB180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EDA8-9A64-4962-9697-F113EF9C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E5F6066-B631-499F-8D84-7CA91CBBF1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Pedro Ja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D8EE-D963-4095-83CC-4500343F7B30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5. POLÍTICAS: integrabl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lanos regulad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 predio, máx. o mí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nsidad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sos permitidos (resid., indust., comerci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ltura máx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centivos: subsidios e impue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ensible a políticas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gulación óptima en US&amp;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0190-A47E-4C0F-A919-F86E73DBDA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838080" y="609480"/>
            <a:ext cx="410076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Hola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yo me llamo Tomás 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(el preguntón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Que vamos a ver aquí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55C2-AA42-4F35-9187-15D49E31BC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Introducción: conteni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. 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Interacción Transporte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ortamiento Microeconómico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  del Consumidor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.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El Modelo MUS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. La Aplicación d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AC4F-E2AC-458F-A4B4-EC3FE315A7EE}" type="slidenum">
              <a:t>3</a:t>
            </a:fld>
          </a:p>
        </p:txBody>
      </p:sp>
    </p:spTree>
  </p:cSld>
  <p:transition spd="med" advTm="1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5400" spc="-1" strike="noStrike">
                <a:solidFill>
                  <a:srgbClr val="8cf4ea"/>
                </a:solidFill>
                <a:latin typeface="Times New Roman"/>
              </a:rPr>
              <a:t>Módulo 1</a:t>
            </a: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42BD-0797-41E3-AD80-AE30BCDC85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776160" y="1066680"/>
            <a:ext cx="41007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Qué se le puede pedir a estos modelitos urbanos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D6DC-7D2D-49FA-98FA-64A2637269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1. AGENTES: muy variados y complet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33000" y="205740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USU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HOGARES Y FIR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INDIVIDUOS - ACTIVIDADES - VIA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OPERADO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ERCADO INMOBILI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NORMATIVA, REGULACIONES E INCENTIVOS 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72A8-57F5-4D78-A2E4-5EE4F426B4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2. ENFOQUE</a:t>
            </a: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 : microeconómic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tienen preferencias individuales definidas por su ambien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ero, se pueden agrupar en categorías socioeconomicas homogeneas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h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s preferencias se definen sobre los atributos de los bienes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gentes son racionales: má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41F7-2211-4101-B042-1D3C376A1A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3. ATRIBUTOS: múltiples y variad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tributos son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múltip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scri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propiedad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v):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terreno, vivienda, vist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..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localización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 : 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barrio, accesibilidad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atractiv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l sistema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 la localización: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xternalidade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economías de aglomeración, ambiente construido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09A0-E89C-4C82-9924-0E79B0BD4D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4. EL MERCADO: especulativ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Bien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cuasi-único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localización captura las ventajas de localización o externalida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bien transado es la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método de transacción es el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re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compite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una localización (exepto regulacion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alor de la propiedad o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ren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consistente con el mercado de rem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ceptar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speculació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E8A0-8F8F-4B5F-BBBD-77A31F3B4B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Universidad de Chile</cp:lastModifiedBy>
  <dcterms:modified xsi:type="dcterms:W3CDTF">2001-08-12T17:12:28Z</dcterms:modified>
  <cp:revision>69</cp:revision>
  <dc:subject/>
  <dc:title>General</dc:title>
</cp:coreProperties>
</file>